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CAB-501A-4AEA-A1D0-607119A3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81A-686F-4F16-AB96-29113EAB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EDE-DA1C-410F-9F00-6B5FEA57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BE5-7609-401B-9C15-D8E6A140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0B8-8791-4EE4-A0ED-6D9C3923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1468-1016-4884-8D2A-AA4A12C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C430-B9F9-406C-8C94-90CD5DB9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A443-7F1B-47EB-8361-56CD540C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DF69-28B9-4B1A-8BEE-01BD280D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27B0-0383-4011-BB1D-8E5ACB3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B6EA-5E93-43AE-A73C-CCCE4A2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646-845F-40A1-92F6-294FA806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0369-F1E5-4B2E-B08A-579F136A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1D77-07B6-41B7-858B-84DBC4C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EE8F-9479-4037-BE8A-69B33F5F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01D3-EF04-44F7-BFD0-BBFB0012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AB3C-2B83-489F-BC54-BBCABD88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967-73E8-4CAD-B7BF-89A980B6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CBB-8784-421D-875D-8810AE65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FD4-CAB0-40F7-BCB5-E81CDC4C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7D1-E520-428D-9988-1CB6F690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A3F-9EDD-4FB3-AC04-6FCFBDD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099-69CD-4909-A6AC-C29F2FE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7A4-841F-4509-97A9-86DCC9DD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C2E-057D-4FC0-AAB2-6759415AB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A174-917A-48CF-AA0D-F96E4492E7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Major  Social Institutions - </a:t>
            </a:r>
            <a:br>
              <a:rPr sz="6000"/>
            </a:b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Economic Institution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Human behavior is mainly concerned satisf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It is centered on the tas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The most absorbing interest of m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Bring about changes in the environ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This aspect of man’s activity constitu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We cannot isolate ourselves from econom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Microeconomics </a:t>
            </a:r>
            <a:br>
              <a:rPr sz="6000"/>
            </a:b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Vs. </a:t>
            </a:r>
            <a:br>
              <a:rPr sz="6000"/>
            </a:b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Macroeconomics 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croeconomics – concerned with the specific economic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croeconomics – concerned the economy as whol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What are the basic economic problem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What  goods and services to produ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- certain good or services becomes profita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2.     How  to produce goods and servic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- problem of production technology or metho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When are the goods and service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- this is the problem of distribu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9:52:32Z</dcterms:created>
  <dc:creator>West Central School District</dc:creator>
  <dc:description/>
  <dc:language>en-US</dc:language>
  <cp:lastModifiedBy>Online</cp:lastModifiedBy>
  <dcterms:modified xsi:type="dcterms:W3CDTF">2012-02-28T12:40:26Z</dcterms:modified>
  <cp:revision>19</cp:revision>
  <dc:subject/>
  <dc:title>Parts of the plant and their functions</dc:title>
</cp:coreProperties>
</file>